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A179-AB9D-4A9E-A37E-DA0B67FDF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argosymedical.com/Diges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webmd.com/digestive-disorders/picture-of-the-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erbsandmore.com/2012/02/digestive-problems-acid-reflux-is-vanquished-with-alkaline-wate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; http://www.healthnative.com/diet-for-peptic-ulce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studyblue.com/notes/note/n/392--digestive-system-catabolize-macromolecs/deck/2596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utorvista.com/content/biology/biology-iv/animal-nutrition/holozoic-nutrition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epositphotos.com/10073266/stock-illustration-Digestive-Syste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fovisual.info/03/057_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zadehmd.com/parotid-salivary-gland-surgery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-forums.com/index.php?topic=576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iheartguts.com/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1B40-93AB-4BAB-96B6-F4BAF7EE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340F-DE96-4B12-985F-D2AED1A9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0C54-668F-4591-B4C9-9225107D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7C2-3634-44FC-B1FB-8B4CA50B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F43-65D5-43A1-9BDF-F55F3095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E6E-45E8-4495-BEE2-771714A6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284-1803-495E-B9B5-26CE10D7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D94D-AEF8-4AB4-86B4-2848FDEA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5AA-799A-48A9-99BF-54CFE25F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9FA7-9739-46F8-B16D-B24334C8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66A-5DA8-42E3-9E47-3CF41BAD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D28-DBC2-4704-97B1-BBAE1ED9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B391-5173-4EBA-BDCF-68B4E69E6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nimations.3d4medical.com/Peristalsis-animation_AN2441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3, 9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mon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tr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uses releas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psin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d by acid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p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digests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us becom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67080" y="2081160"/>
            <a:ext cx="44197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Refl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920" y="1981080"/>
            <a:ext cx="412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mach Ul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51240" y="1981080"/>
            <a:ext cx="424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-celled 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llyfish, flatworms ha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trovascular c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038480" y="2424240"/>
            <a:ext cx="48006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 tract with two ope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two openings better than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2502000"/>
            <a:ext cx="3809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71880" y="1676520"/>
            <a:ext cx="4876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1625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 in the 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digestion with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va contains enzym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yl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digests st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us helps with swa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95680" y="2370240"/>
            <a:ext cx="42674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sophag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iglott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oses over the trachea during swa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food moves to stomach du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imations.3d4medical.com/Peristalsis-animation_AN244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48320" y="2612880"/>
            <a:ext cx="380988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cters control movement of food in &amp; out of sto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tric juice contains enzymes, acid, and mu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95680" y="1616040"/>
            <a:ext cx="441972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14:23:53Z</dcterms:created>
  <dc:creator>rubina khan</dc:creator>
  <dc:description/>
  <dc:language>en-US</dc:language>
  <cp:lastModifiedBy>rubina khan</cp:lastModifiedBy>
  <dcterms:modified xsi:type="dcterms:W3CDTF">2013-05-02T14:59:41Z</dcterms:modified>
  <cp:revision>17</cp:revision>
  <dc:subject/>
  <dc:title>PowerPoint Presentation</dc:title>
</cp:coreProperties>
</file>